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1.gif" ContentType="image/gif"/>
  <Override PartName="/ppt/media/image29.png" ContentType="image/png"/>
  <Override PartName="/ppt/media/image6.png" ContentType="image/png"/>
  <Override PartName="/ppt/media/image31.png" ContentType="image/png"/>
  <Override PartName="/ppt/media/image1.jpeg" ContentType="image/jpeg"/>
  <Override PartName="/ppt/media/image7.png" ContentType="image/png"/>
  <Override PartName="/ppt/media/image27.gif" ContentType="image/gif"/>
  <Override PartName="/ppt/media/image32.png" ContentType="image/png"/>
  <Override PartName="/ppt/media/image22.jpeg" ContentType="image/jpeg"/>
  <Override PartName="/ppt/media/image9.gif" ContentType="image/gif"/>
  <Override PartName="/ppt/media/image13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8.jpeg" ContentType="image/jpeg"/>
  <Override PartName="/ppt/media/image25.gif" ContentType="image/gif"/>
  <Override PartName="/ppt/media/image33.jpeg" ContentType="image/jpeg"/>
  <Override PartName="/ppt/media/image5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BB1C-82D2-4A96-99C4-71486B85C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AB86-59E9-4456-B472-242D8823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8B36-938E-44C0-A6D9-FBB5E186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7474-147C-461E-A22B-DC45082238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95F71-5C08-4065-B9C9-BCFFFD85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5EB52-4134-4863-B46E-90BD18C7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88F98-E0F4-4E4A-BCDA-F92E7E83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3C553-3EFC-48F7-A290-CE630C98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89AE6-37B3-4A33-8976-8AF103F1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11C32-CA68-4058-B7C5-50DC0A84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63C93-CE57-4450-9C56-436C0A2E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D7F1-B033-4DEB-A9B4-BDC6CABA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8ADA6-BB32-45E9-85ED-4C97C433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75B8B-396A-43F0-97D8-E05F96D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9EA81-9BBA-4771-9130-3573ADC1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C565C-22F4-478A-90AF-550187D7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EAEBC-FB03-461F-96DF-F52BA54F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62FD-096A-4332-959A-ED43FEC6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B232-0F3A-4C7B-91DE-411FEF72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965A-54C9-41E5-8CD5-AA459647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935F-EB6B-4734-9AC7-48960284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6A91-CD29-4ECC-9ABC-59172714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A602-E5EB-484A-8906-DCBBD030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AC7C-CAB2-4AC7-B069-56D61D09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72360" y="6436800"/>
            <a:ext cx="79056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9E5A-AD3F-4E63-884E-8D6AA0D3F28A}" type="slidenum">
              <a:rPr b="0" lang="cs-CZ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539640" y="906840"/>
            <a:ext cx="7993080" cy="71640"/>
          </a:xfrm>
          <a:prstGeom prst="rect">
            <a:avLst/>
          </a:prstGeom>
          <a:solidFill>
            <a:srgbClr val="000080">
              <a:alpha val="77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6453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Astrosou</a:t>
            </a:r>
            <a:r>
              <a:rPr b="0" lang="cs-CZ" sz="1400" spc="-1" strike="noStrike">
                <a:solidFill>
                  <a:srgbClr val="3333cc"/>
                </a:solidFill>
                <a:latin typeface="Comic Sans MS"/>
              </a:rPr>
              <a:t>středění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32000" y="6453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Astrosou</a:t>
            </a:r>
            <a:r>
              <a:rPr b="0" lang="cs-CZ" sz="1400" spc="-1" strike="noStrike">
                <a:solidFill>
                  <a:srgbClr val="3333cc"/>
                </a:solidFill>
                <a:latin typeface="Comic Sans MS"/>
              </a:rPr>
              <a:t>středění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720A-244E-4C4F-AD23-36E81EB180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2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2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terakce v p</a:t>
            </a:r>
            <a:r>
              <a:rPr b="0" lang="cs-CZ" sz="4000" spc="-1" strike="noStrike">
                <a:solidFill>
                  <a:srgbClr val="3333cc"/>
                </a:solidFill>
                <a:latin typeface="Comic Sans MS"/>
              </a:rPr>
              <a:t>řírodě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Comic Sans MS"/>
              </a:rPr>
              <a:t>Miroslav Havráne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Fyzikální ústav AVČR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 v. v.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1611360" cy="2276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708360" y="4724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167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843280" y="189000"/>
            <a:ext cx="3168720" cy="1628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532640" y="4581360"/>
            <a:ext cx="161136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-181080" y="1916280"/>
            <a:ext cx="9495000" cy="14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32000" y="6578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Astrosou</a:t>
            </a:r>
            <a:r>
              <a:rPr b="0" lang="cs-CZ" sz="1400" spc="-1" strike="noStrike">
                <a:solidFill>
                  <a:srgbClr val="3333cc"/>
                </a:solidFill>
                <a:latin typeface="Comic Sans MS"/>
              </a:rPr>
              <a:t>středění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Slabá interak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Slabá interak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1930 W. Pauli teoreticky předpověděl neutr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3700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Zodpovědná za některé rozpady čá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Velmi krátký dosah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~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cs-CZ" sz="1800" spc="-1" strike="noStrike" baseline="30000">
                <a:solidFill>
                  <a:srgbClr val="3333cc"/>
                </a:solidFill>
                <a:latin typeface="Comic Sans MS"/>
              </a:rPr>
              <a:t>-18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Výměnné částice: W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±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(80,4 GeV), Z</a:t>
            </a:r>
            <a:r>
              <a:rPr b="0" lang="cs-CZ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(90,2 G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95640" y="3890880"/>
            <a:ext cx="489744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C701-A808-49FA-86FC-29295BD338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Narušení syme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341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1957 Yang a Lee – slabá interakce narušuje paritní symetr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3789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1964 J. Cronin, V. Fitch – slabá interakce narušuje CP symetr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627280" y="2205000"/>
            <a:ext cx="3809880" cy="1203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2303640" cy="207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B594-15B5-4888-B7C2-59EE760F3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Narušení CP syme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68240" y="1197000"/>
                <a:ext cx="1197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303552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84240" y="1989000"/>
                <a:ext cx="163044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⟩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⟩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|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⟩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⟩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95280" y="1341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neutrální kaony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8200" y="3645000"/>
                <a:ext cx="28130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92720" y="3789360"/>
                <a:ext cx="347184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⟩</m:t>
                            </m:r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⟩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⟩</m:t>
                            </m:r>
                            <m:r>
                              <m:t xml:space="preserve">−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⟩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635280" y="4581360"/>
            <a:ext cx="14414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3602-1EC5-4C8D-B893-8D0D39565C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Neutrální ka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4994280" cy="354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340000" y="1484280"/>
                <a:ext cx="3809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ony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3 pion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000A-35B6-47AA-B44D-9FAFC95DD5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Elektroslabé sjednoc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1952640" cy="2735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635280" y="1125360"/>
            <a:ext cx="1952640" cy="273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2735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8200" y="39326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heldon Lee Gla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98640" y="39326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bdus Sal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4240" y="3932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teven Weinbe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4508640"/>
            <a:ext cx="792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1979 Nobelov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Předpověděli intermediální bosony elektroslabé interakce včetně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jejich hmotnos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1984 Bosony objeveny na urychlovači SPS v CERNu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E2B9-E830-4EA1-8F2C-BA55CAB085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ln</a:t>
            </a: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á interak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34136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Působí mezi částicemi s barevným nábojem – KVARKY a GLU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drží pohromadě hadrony a atomová já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Dosah 10</a:t>
            </a:r>
            <a:r>
              <a:rPr b="0" lang="cs-CZ" sz="1800" spc="-1" strike="noStrike" baseline="30000">
                <a:solidFill>
                  <a:srgbClr val="3333cc"/>
                </a:solidFill>
                <a:latin typeface="Comic Sans MS"/>
              </a:rPr>
              <a:t>-15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m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~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průměr atomového já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306864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Asymptotická volnost 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 p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řitažlivá síla roste se vzdálenos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kvarky jsou uvězněny v hadron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763640" y="3933720"/>
            <a:ext cx="2222640" cy="2259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508720" y="3933720"/>
            <a:ext cx="1974600" cy="23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F955-59D4-4B40-B04E-105D63130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3384360" cy="2017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68360" y="285264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ln</a:t>
            </a: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á interak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484280"/>
            <a:ext cx="75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vark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y nesou barevný náb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Gluony nesou barevný náboj a barevný antináboj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372360" y="2852640"/>
            <a:ext cx="2068200" cy="29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D89B-192A-485D-A982-4EB0E27ED9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Uvěznění kvark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4105440" cy="30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156360" y="1052640"/>
            <a:ext cx="1700280" cy="19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688C-095A-4D57-8053-47B45E0369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Vázané st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857320" cy="129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659640" y="1197000"/>
            <a:ext cx="1765080" cy="198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39640" y="1125360"/>
            <a:ext cx="2965680" cy="1981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5640" y="1773360"/>
            <a:ext cx="1800360" cy="0"/>
          </a:xfrm>
          <a:prstGeom prst="line">
            <a:avLst/>
          </a:prstGeom>
          <a:ln w="133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084720" y="3573360"/>
            <a:ext cx="2722680" cy="15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95640" y="4365720"/>
            <a:ext cx="1800360" cy="0"/>
          </a:xfrm>
          <a:prstGeom prst="line">
            <a:avLst/>
          </a:prstGeom>
          <a:ln w="133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995640" y="2205000"/>
                <a:ext cx="2016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924360" y="5157720"/>
                <a:ext cx="1923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6ED9-3AFA-49DD-8F1C-3209E031BF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7991280" cy="3595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24000" y="26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Energetická závislost vazbových k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0A45-2F98-44A3-B400-E2FAA21AB4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flipV="1">
            <a:off x="539640" y="906840"/>
            <a:ext cx="7993080" cy="71640"/>
          </a:xfrm>
          <a:prstGeom prst="rect">
            <a:avLst/>
          </a:prstGeom>
          <a:solidFill>
            <a:srgbClr val="000080">
              <a:alpha val="77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Interakce dlouhého dosa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4005360"/>
            <a:ext cx="698508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Comic Sans MS"/>
              </a:rPr>
              <a:t>Elektromagnetická intera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cs-CZ" sz="2000" spc="-1" strike="noStrike">
                <a:solidFill>
                  <a:srgbClr val="3333cc"/>
                </a:solidFill>
                <a:latin typeface="Comic Sans MS"/>
              </a:rPr>
              <a:t>- 1780 – Ch. A. Coulo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1865 J. C. Maxwell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=&gt;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sjednocený popis elektr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                           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a magnetických jev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32000" y="2781360"/>
                <a:ext cx="23493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14440" y="4970520"/>
                <a:ext cx="19940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614920" y="3284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om</a:t>
            </a:r>
            <a:r>
              <a:rPr b="0" lang="cs-CZ" sz="2000" spc="-1" strike="noStrike">
                <a:solidFill>
                  <a:srgbClr val="3333cc"/>
                </a:solidFill>
                <a:latin typeface="Comic Sans MS"/>
              </a:rPr>
              <a:t>ěr těchto sil v případě elektronů je 10</a:t>
            </a:r>
            <a:r>
              <a:rPr b="0" lang="cs-CZ" sz="2000" spc="-1" strike="noStrike" baseline="30000">
                <a:solidFill>
                  <a:srgbClr val="3333cc"/>
                </a:solidFill>
                <a:latin typeface="Comic Sans MS"/>
              </a:rPr>
              <a:t>42</a:t>
            </a:r>
            <a:r>
              <a:rPr b="0" lang="cs-CZ" sz="2000" spc="-1" strike="noStrike">
                <a:solidFill>
                  <a:srgbClr val="3333cc"/>
                </a:solidFill>
                <a:latin typeface="Comic Sans MS"/>
              </a:rPr>
              <a:t>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588000" y="4724280"/>
            <a:ext cx="1800360" cy="1630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1341360"/>
            <a:ext cx="8208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mic Sans MS"/>
              </a:rPr>
              <a:t>Gravitační inter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Newton 1687 – formulace newton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ské mechanik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Newtonova „síla“ vysvětlovala tehdy větši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pozorovaných kinematických jev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32AC-3386-4BDF-AEE7-A49E36C4F3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26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34136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Gravitační interak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popis pomocí OTR, působí na všechny částice, uplatňuje se v makrosvět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intenzita interakce 1 (vzhledem ke gravitaci), nekonečný dos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56536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Elektromagnetická interak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působí na částice s elektrickým náboje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intenzita interakce 10</a:t>
            </a:r>
            <a:r>
              <a:rPr b="0" lang="cs-CZ" sz="1800" spc="-1" strike="noStrike" baseline="30000">
                <a:solidFill>
                  <a:srgbClr val="3333cc"/>
                </a:solidFill>
                <a:latin typeface="Comic Sans MS"/>
              </a:rPr>
              <a:t>36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, výměnná částice je foton, nekonečný dos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860640"/>
            <a:ext cx="85690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Slabá interak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působí mezi leptony a kvark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intenzita interakce 10</a:t>
            </a:r>
            <a:r>
              <a:rPr b="0" lang="cs-CZ" sz="1800" spc="-1" strike="noStrike" baseline="30000">
                <a:solidFill>
                  <a:srgbClr val="3333cc"/>
                </a:solidFill>
                <a:latin typeface="Comic Sans MS"/>
              </a:rPr>
              <a:t>25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, výměnné částice 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4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, dosah 10</a:t>
            </a:r>
            <a:r>
              <a:rPr b="0" lang="cs-CZ" sz="1800" spc="-1" strike="noStrike" baseline="30000">
                <a:solidFill>
                  <a:srgbClr val="3333cc"/>
                </a:solidFill>
                <a:latin typeface="Comic Sans MS"/>
              </a:rPr>
              <a:t>-18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522936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Silná interak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působí mezi kvarky a glu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intenzita interakce 10</a:t>
            </a:r>
            <a:r>
              <a:rPr b="0" lang="cs-CZ" sz="1800" spc="-1" strike="noStrike" baseline="30000">
                <a:solidFill>
                  <a:srgbClr val="3333cc"/>
                </a:solidFill>
                <a:latin typeface="Comic Sans MS"/>
              </a:rPr>
              <a:t>38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, výměnné částice jsou gluony, dosah 10</a:t>
            </a:r>
            <a:r>
              <a:rPr b="0" lang="cs-CZ" sz="1800" spc="-1" strike="noStrike" baseline="30000">
                <a:solidFill>
                  <a:srgbClr val="3333cc"/>
                </a:solidFill>
                <a:latin typeface="Comic Sans MS"/>
              </a:rPr>
              <a:t>-15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588E-671F-42BB-B5FF-CF2706DAE7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cc"/>
                </a:solidFill>
                <a:latin typeface="Comic Sans MS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1611360" cy="2276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708360" y="4724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1674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2843280" y="189000"/>
            <a:ext cx="3168720" cy="1628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532640" y="4581360"/>
            <a:ext cx="1611360" cy="2276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-181080" y="1916280"/>
            <a:ext cx="9495000" cy="144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132000" y="6578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Astrosou</a:t>
            </a:r>
            <a:r>
              <a:rPr b="0" lang="cs-CZ" sz="1400" spc="-1" strike="noStrike">
                <a:solidFill>
                  <a:srgbClr val="3333cc"/>
                </a:solidFill>
                <a:latin typeface="Comic Sans MS"/>
              </a:rPr>
              <a:t>středění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insteinovo poje</a:t>
            </a: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tí gravit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341360"/>
            <a:ext cx="84978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19/20. století - Newtonova koncepce má trh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neomezená rychlost interak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stáčení perihelia Merkur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43“ za stole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1916 – Albert Einstein popsal gravitaci pomocí deformací časoprosto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každé hmotné těleso okolo sebe deformuje čsopro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objekty se pohybují po nejrovnějších možných drahá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geodetikách, avšak v zakřiveném časoprosto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Částice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=&gt; gravitace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neměřiteln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Hroucení hvězdy do černé dí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=&gt;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gravitace domin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92720" y="4508640"/>
            <a:ext cx="3384720" cy="166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3C0B-806C-4FE8-BE2B-9AE467D27B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7885-ADF8-4A9F-B199-E6CFA264F5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Limity Maxwellovy t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268280"/>
            <a:ext cx="835164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Stále existuje pojem sí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Interakce se propaguje nekonečnou rychlos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Selhává na mikroskopických rozměrech, kde se uplatňují zák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kvantové teo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Fundamentální interakce musí být popsána na úrovni elementární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částic teorií, která zahrnuje kvantovou teorii a speciální teorii rel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=&gt;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cs-CZ" sz="1800" spc="-1" strike="noStrike">
                <a:solidFill>
                  <a:srgbClr val="3333cc"/>
                </a:solidFill>
                <a:latin typeface="Comic Sans MS"/>
              </a:rPr>
              <a:t>Kvantová Teorie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3280" y="4869000"/>
            <a:ext cx="3810240" cy="1190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1280" y="4869000"/>
            <a:ext cx="3809880" cy="119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B59B-0959-4873-9BBC-FBEBF421D2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Kvantová elektrodynam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9280" y="1844640"/>
            <a:ext cx="842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„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Vylepšený“ Coulombův zák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 v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ýměnnou částicí elektromagnetick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interakce je fot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Vysvětluje elmg. jevy které stávajíc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teorie vysvětlit nemoh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56360" y="1916280"/>
            <a:ext cx="2160720" cy="216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47640" y="4653000"/>
                <a:ext cx="62643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ℏ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73525376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AFFA-5F9E-4FC2-94B4-F0FA463340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260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Anomální magnetický moment elektro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1700280"/>
            <a:ext cx="504036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 klasick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á teorie 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Bohrův magne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= 2   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 Diracova rovn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= 2.002 319 304 38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antov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á elektrodynamik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861840" y="1773360"/>
                <a:ext cx="1944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332000" y="50133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Výpočet </a:t>
            </a:r>
            <a:r>
              <a:rPr b="0" i="1" lang="cs-CZ" sz="18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faktoru podle zákonů kvantové elektrodynamiky souhlasí s přesností na 11 platných číslic ! ! !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4746-EF49-48ED-B22D-5AD945EDCC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71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mb</a:t>
            </a: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ův pos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7864560" cy="2036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1413000"/>
            <a:ext cx="842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Jemný rozdíl energie mezi stavy elektronu 2S</a:t>
            </a:r>
            <a:r>
              <a:rPr b="0" lang="cs-CZ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a 2P</a:t>
            </a:r>
            <a:r>
              <a:rPr b="0" lang="cs-CZ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060640"/>
            <a:ext cx="77756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∆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E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~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1058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- 27 MHz 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polarizace vak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68 MHz 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anomální magnetický moment elektronu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1017 MHz =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gt;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korekce hmotnosti elektr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B039-DC5B-4855-8731-7BFFE24707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Comic Sans MS"/>
              </a:rPr>
              <a:t>Symetrie U(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38400" y="1341360"/>
                <a:ext cx="500868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ψ</m:t>
                        </m:r>
                        <m:r>
                          <m:t xml:space="preserve">⟩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ψ</m:t>
                                </m:r>
                                <m:r>
                                  <m:t xml:space="preserve">⟩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θ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14836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19640" y="1988640"/>
            <a:ext cx="576360" cy="576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2060640"/>
            <a:ext cx="576360" cy="576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2924280"/>
            <a:ext cx="763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ázi nelze experimentálně změř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Lze požadovat invarianci fyzikálních zákonů vůči fázov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transformaci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589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mplementac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í U(1) do rovnic QED získáme foton, výměnnou čás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3333cc"/>
                </a:solidFill>
                <a:latin typeface="Comic Sans MS"/>
              </a:rPr>
              <a:t>elektromagnetické interak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14972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Comic Sans MS"/>
              </a:rPr>
              <a:t>Fázová symetrie je symetrií kvantové elektrodynami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40360" y="4797360"/>
                <a:ext cx="2520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ψ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2351880" y="48690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cc"/>
                </a:solidFill>
                <a:latin typeface="Comic Sans MS"/>
              </a:rPr>
              <a:t>U(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599F-0696-4142-B133-1F39E05AFD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</cp:lastModifiedBy>
  <dcterms:modified xsi:type="dcterms:W3CDTF">2009-05-29T17:28:38Z</dcterms:modified>
  <cp:revision>25</cp:revision>
  <dc:subject/>
  <dc:title>PowerPoint Presentation</dc:title>
</cp:coreProperties>
</file>